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type.wav" ContentType="audio/x-wav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FC54-9F2B-4373-85BA-8F221FDC4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019F-5EB9-46D1-9C4D-5751F06CB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46A0-304B-40AF-8BA7-F71F499D9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1986-2D11-4BB7-99D8-26F0259E4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1A40-28CA-47B0-96A0-28E9596D7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409D-A3EE-44C5-AAE8-0E1E707C3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C93D-F953-48AE-AC86-85D3B3FEA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33AD-4FC7-42B3-8850-282135AEE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D560-5F02-42C0-9475-1A807E3E7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9CAB-CC6A-4ADF-826E-123B3A711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1FE2-737D-437D-8431-C5F874202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3371-C930-440F-9D13-08D778296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6B75-6B02-46FC-9174-40565F3AB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BF54-323F-4667-B376-9AC7880C4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DAE4-5801-4ECD-92AF-CDDA66D43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AF2F-830F-4180-8E65-BD988F203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6C5D-205E-4019-BDE3-F2AF6983F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5822-61D9-481C-AF88-EFD81B501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A614-E80B-4ACD-89AA-1F160F84C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77B9-7F63-41A5-927E-38A26D4A7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50C5-D1AE-47D1-8E4F-E2B6B621B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B092-C37C-4CFB-9569-810DABD9B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48F-320D-4A1E-A615-41368F2B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416-D702-4A7E-99C5-EBE4231C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125-8AFB-4E41-9B2B-81EA665D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1D7-73B2-4DFD-B9CE-9D877FAC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653-CF2F-4FDB-BB31-F1DF693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CBE-AF83-40FB-8FD7-EC4D0B38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B62-C36E-4CEB-858D-43144124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17C-CD48-4607-9F95-CA5094DD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80E-0DF7-4FAD-B57F-DA8179D5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4AF-F136-4374-BD4C-168B9FCA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9B3-59A4-4BE9-B8AD-19AB7B7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A26-0983-45B6-9540-62A62B4E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2563-3A27-40BF-A79E-3C4374AED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492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Let</a:t>
            </a:r>
            <a:r>
              <a:rPr b="1" lang="ja-JP" sz="54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 Learn Abou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1523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Cal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s00995_"/>
          <p:cNvPicPr/>
          <p:nvPr/>
        </p:nvPicPr>
        <p:blipFill>
          <a:blip r:embed="rId1"/>
          <a:stretch/>
        </p:blipFill>
        <p:spPr>
          <a:xfrm>
            <a:off x="2133720" y="2895480"/>
            <a:ext cx="2205000" cy="346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bs00995_"/>
          <p:cNvPicPr/>
          <p:nvPr/>
        </p:nvPicPr>
        <p:blipFill>
          <a:blip r:embed="rId2"/>
          <a:stretch/>
        </p:blipFill>
        <p:spPr>
          <a:xfrm>
            <a:off x="3657600" y="2895480"/>
            <a:ext cx="2205000" cy="346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s00995_"/>
          <p:cNvPicPr/>
          <p:nvPr/>
        </p:nvPicPr>
        <p:blipFill>
          <a:blip r:embed="rId3"/>
          <a:stretch/>
        </p:blipFill>
        <p:spPr>
          <a:xfrm>
            <a:off x="5257800" y="2895480"/>
            <a:ext cx="2205000" cy="346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bk00014_"/>
          <p:cNvPicPr/>
          <p:nvPr/>
        </p:nvPicPr>
        <p:blipFill>
          <a:blip r:embed="rId4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3808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So a nonfiction call number for a mammal book by </a:t>
            </a:r>
            <a:r>
              <a:rPr b="1" lang="en-US" sz="5400" spc="-1" strike="noStrike">
                <a:solidFill>
                  <a:srgbClr val="009900"/>
                </a:solidFill>
                <a:latin typeface="Comic Sans MS"/>
              </a:rPr>
              <a:t>Jane Mosley</a:t>
            </a: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 would look like th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36576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5800" y="409896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599                     Mos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How do we put nonfiction call numbers in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9480" y="3276720"/>
            <a:ext cx="8001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99"/>
                </a:solidFill>
                <a:latin typeface="Comic Sans MS"/>
              </a:rPr>
              <a:t>Nonfiction call numbers are put in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umber order first, 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then in ABC ord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4572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</a:rPr>
              <a:t>One kind of nonfiction book has a different recipe from the rest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38080" y="396252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biograph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75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04920" y="3808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What is a biograph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04920" y="17524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Comic Sans MS"/>
              </a:rPr>
              <a:t>A book about the life of a famous pers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8098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Biography call numbers have their own special reci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026"/>
          <p:cNvSpPr/>
          <p:nvPr/>
        </p:nvSpPr>
        <p:spPr>
          <a:xfrm>
            <a:off x="533520" y="380880"/>
            <a:ext cx="830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Our biography call numbers are made up of two par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27"/>
          <p:cNvSpPr/>
          <p:nvPr/>
        </p:nvSpPr>
        <p:spPr>
          <a:xfrm>
            <a:off x="457200" y="28954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B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(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or biograp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28"/>
          <p:cNvSpPr/>
          <p:nvPr/>
        </p:nvSpPr>
        <p:spPr>
          <a:xfrm>
            <a:off x="457200" y="41148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famous person</a:t>
            </a:r>
            <a:r>
              <a:rPr b="1" lang="ja-JP" sz="4800" spc="-1" strike="noStrike" u="sng">
                <a:solidFill>
                  <a:srgbClr val="ff0000"/>
                </a:solidFill>
                <a:uFillTx/>
                <a:latin typeface="Comic Sans MS"/>
              </a:rPr>
              <a:t>’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s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last name 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(not the author</a:t>
            </a:r>
            <a:r>
              <a:rPr b="1" lang="ja-JP" sz="4000" spc="-1" strike="noStrike">
                <a:solidFill>
                  <a:srgbClr val="009900"/>
                </a:solidFill>
                <a:latin typeface="Comic Sans MS"/>
              </a:rPr>
              <a:t>’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s nam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29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066680" y="380880"/>
            <a:ext cx="8001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So the call number    for a biography about    </a:t>
            </a: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George Washington  </a:t>
            </a: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ould look like thi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752480" y="36576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600200" y="4876920"/>
            <a:ext cx="594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Washingt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14400" y="3808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What would the call number for a biography about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Troy Aikman 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look lik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3581280"/>
            <a:ext cx="7315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Aikma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5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54936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How are biography call numbers put in ord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33520" y="2727360"/>
            <a:ext cx="8076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Since our biography call numbers have a B, they are put in </a:t>
            </a:r>
            <a:r>
              <a:rPr b="1" lang="en-US" sz="5000" spc="-1" strike="noStrike">
                <a:solidFill>
                  <a:srgbClr val="009900"/>
                </a:solidFill>
                <a:latin typeface="Comic Sans MS"/>
              </a:rPr>
              <a:t>ABC order by name of famous person</a:t>
            </a:r>
            <a:r>
              <a:rPr b="1" lang="en-US" sz="50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838080" y="3049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</a:rPr>
              <a:t>A reference call number is made up of two par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2120" y="3276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Ref</a:t>
            </a: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(for refer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85800" y="441972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Numbers for the subject (like nonficti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09480" y="38088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So a reference call number for a dictionary would look like th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523880" y="403848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Ref</a:t>
            </a:r>
            <a:r>
              <a:rPr b="1" lang="en-US" sz="7200" spc="-1" strike="noStrike">
                <a:solidFill>
                  <a:srgbClr val="a50021"/>
                </a:solidFill>
                <a:latin typeface="Comic Sans MS"/>
              </a:rPr>
              <a:t>              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B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26"/>
          <p:cNvSpPr/>
          <p:nvPr/>
        </p:nvSpPr>
        <p:spPr>
          <a:xfrm>
            <a:off x="762120" y="68904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Remember, a        </a:t>
            </a:r>
            <a:r>
              <a:rPr b="1" lang="en-US" sz="5400" spc="-1" strike="noStrike">
                <a:solidFill>
                  <a:srgbClr val="00b050"/>
                </a:solidFill>
                <a:latin typeface="Comic Sans MS"/>
              </a:rPr>
              <a:t>call number </a:t>
            </a: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is like the book</a:t>
            </a:r>
            <a:r>
              <a:rPr b="1" lang="ja-JP" sz="5400" spc="-1" strike="noStrike">
                <a:solidFill>
                  <a:srgbClr val="000099"/>
                </a:solidFill>
                <a:latin typeface="Comic Sans MS"/>
              </a:rPr>
              <a:t>’</a:t>
            </a: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s address in the library.  It tells where the book lives on the library shel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2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09480" y="380880"/>
            <a:ext cx="82296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Other book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Easy fiction 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marked by an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 and author</a:t>
            </a:r>
            <a:r>
              <a:rPr b="1" lang="ja-JP" sz="4800" spc="-1" strike="noStrike">
                <a:solidFill>
                  <a:srgbClr val="000099"/>
                </a:solidFill>
                <a:latin typeface="Comic Sans MS"/>
              </a:rPr>
              <a:t>’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s last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tory collection 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marked by an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C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 and author</a:t>
            </a:r>
            <a:r>
              <a:rPr b="1" lang="ja-JP" sz="4800" spc="-1" strike="noStrike">
                <a:solidFill>
                  <a:srgbClr val="000099"/>
                </a:solidFill>
                <a:latin typeface="Comic Sans MS"/>
              </a:rPr>
              <a:t>’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s last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066680" y="126684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Now you know all about the call numbers in our libra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380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Our library has four different sections, so we have four kinds of call number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-1219320" y="2286000"/>
            <a:ext cx="74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fi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04920" y="31240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nonfi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37160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biograph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572000" y="51055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refer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047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Today we</a:t>
            </a:r>
            <a:r>
              <a:rPr b="1" lang="ja-JP" sz="5400" spc="-1" strike="noStrike">
                <a:solidFill>
                  <a:srgbClr val="000099"/>
                </a:solidFill>
                <a:latin typeface="Comic Sans MS"/>
              </a:rPr>
              <a:t>’</a:t>
            </a: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re going to learn the recipe for making all four kinds of call numb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bd04923_"/>
          <p:cNvPicPr/>
          <p:nvPr/>
        </p:nvPicPr>
        <p:blipFill>
          <a:blip r:embed="rId2"/>
          <a:stretch/>
        </p:blipFill>
        <p:spPr>
          <a:xfrm>
            <a:off x="1143000" y="4114800"/>
            <a:ext cx="1403280" cy="215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bd04923_"/>
          <p:cNvPicPr/>
          <p:nvPr/>
        </p:nvPicPr>
        <p:blipFill>
          <a:blip r:embed="rId3"/>
          <a:stretch/>
        </p:blipFill>
        <p:spPr>
          <a:xfrm>
            <a:off x="3625920" y="4114800"/>
            <a:ext cx="1403280" cy="21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bd04923_"/>
          <p:cNvPicPr/>
          <p:nvPr/>
        </p:nvPicPr>
        <p:blipFill>
          <a:blip r:embed="rId4"/>
          <a:stretch/>
        </p:blipFill>
        <p:spPr>
          <a:xfrm>
            <a:off x="6172200" y="4038480"/>
            <a:ext cx="14032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533520" y="3808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</a:rPr>
              <a:t>A fiction call number is made up of two par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32767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57200" y="32608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6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(for fic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4956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first three letters in the author</a:t>
            </a:r>
            <a:r>
              <a:rPr b="1" lang="ja-JP" sz="54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 last n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380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So a fiction call number for the author,   </a:t>
            </a:r>
            <a:r>
              <a:rPr b="1" lang="en-US" sz="5400" spc="-1" strike="noStrike">
                <a:solidFill>
                  <a:srgbClr val="009900"/>
                </a:solidFill>
                <a:latin typeface="Comic Sans MS"/>
              </a:rPr>
              <a:t>Beverly Cleary</a:t>
            </a: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 would look like th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09680" y="3962520"/>
            <a:ext cx="48769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F        Cle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80880" y="304920"/>
            <a:ext cx="86108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99"/>
                </a:solidFill>
                <a:latin typeface="Comic Sans MS"/>
              </a:rPr>
              <a:t>What would the fiction call number for the author, </a:t>
            </a:r>
            <a:r>
              <a:rPr b="1" lang="en-US" sz="5800" spc="-1" strike="noStrike">
                <a:solidFill>
                  <a:srgbClr val="009900"/>
                </a:solidFill>
                <a:latin typeface="Comic Sans MS"/>
              </a:rPr>
              <a:t>Matt Christopher</a:t>
            </a:r>
            <a:r>
              <a:rPr b="1" lang="en-US" sz="5800" spc="-1" strike="noStrike">
                <a:solidFill>
                  <a:srgbClr val="000099"/>
                </a:solidFill>
                <a:latin typeface="Comic Sans MS"/>
              </a:rPr>
              <a:t> look like?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371600" y="42670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F           Ch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3520" y="412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How do we put fiction call numbers in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0880" y="22860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ink……How can we put letters in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3886200"/>
            <a:ext cx="8686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That</a:t>
            </a:r>
            <a:r>
              <a:rPr b="1" lang="ja-JP" sz="4400" spc="-1" strike="noStrike">
                <a:solidFill>
                  <a:srgbClr val="009900"/>
                </a:solidFill>
                <a:latin typeface="Comic Sans MS"/>
              </a:rPr>
              <a:t>’</a:t>
            </a: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s right, fiction and easy fiction call numbers are in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BC ord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09480" y="26028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Nonfiction call numbers are made up of two part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30481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Numbers</a:t>
            </a: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(for the subjec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41911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first three letters in the author</a:t>
            </a:r>
            <a:r>
              <a:rPr b="1" lang="ja-JP" sz="54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 last n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7:17:40Z</dcterms:created>
  <dc:creator>Faye Humbard</dc:creator>
  <dc:description/>
  <dc:language>en-US</dc:language>
  <cp:lastModifiedBy>Mary Alice Osborne</cp:lastModifiedBy>
  <dcterms:modified xsi:type="dcterms:W3CDTF">2011-09-25T16:27:38Z</dcterms:modified>
  <cp:revision>90</cp:revision>
  <dc:subject/>
  <dc:title>PowerPoint Presentation</dc:title>
</cp:coreProperties>
</file>